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04C-C209-4D38-9F51-36DA68B8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1CF-8F49-4C5A-82E8-EA725347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636-46E2-4A5D-8CF2-EB703D9A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E70-70E4-4D4E-8B38-DB637B5E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EEE-9C2B-4D5E-8F60-603957B9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6AB-0216-4DBB-A270-26C22B1F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940-82D7-482C-B05B-DB2B371E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99C-67B5-48BA-B988-0FE33B39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5E0-61EF-48A6-B96A-FAA384D8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3D3-C356-47FD-908F-AA74EFE1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B11-C405-4893-A2A2-E940DF19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61C-B53E-4D21-85B7-DE7CCF4E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A9AC-294A-4640-A085-508D688805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fe of Christ, Part 2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 Pere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 10, Lesson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ke 16:19 - 17:10, John 11:1-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s 115-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, We Would See Jesu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ich man and Lazaru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uke 16:19-31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on earth, the rich man lived in splendor and Lazarus longed for scraps from the rich man’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y died, the rich man looked up and saw Abraham with his arm around Laza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ch man asked that Lazarus be sent to comfort hi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great canyon that cannot be cro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ch man asked for Lazarus to be sent to warn his br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his brothers would not listen to Moses and the prophets, they will not be convinced if someone rises from the d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unprofitable servant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uke 17:1-1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nses will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e unto the person that causes another to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brother sins, rebuke him; and if he repents, forgive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give him seven times in a day if he rep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les asked that their faith be incre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old them that if they had faith as small as a mustard seed, their ability would be un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have done what we are told, we have only done our du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esus raises Lazarus from the dead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ohn 11:1-44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and Martha notified Jesus that their brother, Lazarus, was s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said that the sickness was not unto death, but for the glory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waiting two days, Jesus stated that Lazarus slept and that he was going to awake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Jesus reached Bethany, Lazarus had been dead four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ha met Jesus along the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y said that Lazarus would not have died if He had been t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w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called with a loud voice, “Lazarus, come forth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ffect of the raising of Lazaru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ohn 11:45-54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f the Jews believed on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went to the Pharisees and told them what Jesus had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isees were concerned for their status and po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aphas stated that Jesus would die for the nation and not for the nation alone, but he did not realize the content of his stat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at point they planned to kill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Ray Cooley</cp:lastModifiedBy>
  <dcterms:modified xsi:type="dcterms:W3CDTF">2006-07-14T23:28:57Z</dcterms:modified>
  <cp:revision>16</cp:revision>
  <dc:subject/>
  <dc:title>Life of Christ, Part 2 In Perea</dc:title>
</cp:coreProperties>
</file>